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357-B4FF-44CB-9517-152AD812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057-A1D6-46ED-B32D-15006A06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78B-A9D5-40BE-8CCD-5982B7F5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82D4-27A9-4607-A211-AFB9BC11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853-CEFF-4505-B841-F7632CA4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51B-583B-47C9-976D-833912D6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131-597C-44B8-A160-D6359E50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A92-628D-4A56-98A8-DE841652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0B9-9E5C-4509-9F4B-641E0705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FE6-663C-48D8-846C-CE50BFFA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4D4-C849-49E6-A901-FD3914CD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1B7-BB2F-4348-8D6E-BA2F3351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97CB-EEE5-4206-858F-CD7C9D2E60C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0:41Z</dcterms:modified>
  <cp:revision>289</cp:revision>
  <dc:subject/>
  <dc:title>Bottom-Up Parsing</dc:title>
</cp:coreProperties>
</file>